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2821-292D-419F-9936-40AB17988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4CBE-CEBA-4777-B12B-2166D9BE0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FFDA-71A9-41D0-9EA3-212095AFB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0DDB-0AF2-4F49-A9D6-3589397AD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42E3-FCE9-4AFC-BF20-F2E2AEEA9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E51D-DD8F-4250-A5F2-CB263A17E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B766-6541-471A-978B-233F422A5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C6D4-4FC7-443A-B51A-379051B75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7BD2-7FB0-4537-BDDE-D617F9C5D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51D7-A851-4A7A-8D15-A0957BDA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AF1D-448C-4208-A68E-65721B8F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506D-BC2C-4D49-82AB-1870E133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C9990-E2BA-4B0F-8BF1-0C18209E32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763640" y="2997360"/>
            <a:ext cx="5545080" cy="19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85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Section A 1 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2a—2d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50760" y="33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39640" y="-674640"/>
            <a:ext cx="842508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Unit 7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What's the highest mountain in the world?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16200" y="5883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5950080"/>
            <a:ext cx="309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79280" y="4133880"/>
            <a:ext cx="87138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中国的长城共有近一万公里，东起河北秦皇岛的山海关，西到嘉峪关，这是明代修筑长城的两个最大关口，北京境内的长城有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600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余公里，比较著名的有八达岭长城、金山岭长城、司马台长城、慕田峪长城、居庸关长城和箭扣长城等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65880" y="266760"/>
            <a:ext cx="34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The Great Wa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360360" y="907920"/>
            <a:ext cx="8388360" cy="3111480"/>
            <a:chOff x="360360" y="907920"/>
            <a:chExt cx="8388360" cy="3111480"/>
          </a:xfrm>
        </p:grpSpPr>
        <p:pic>
          <p:nvPicPr>
            <p:cNvPr id="82" name="" descr=""/>
            <p:cNvPicPr/>
            <p:nvPr/>
          </p:nvPicPr>
          <p:blipFill>
            <a:blip r:embed="rId2"/>
            <a:stretch/>
          </p:blipFill>
          <p:spPr>
            <a:xfrm>
              <a:off x="360360" y="907920"/>
              <a:ext cx="4537080" cy="307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3"/>
            <a:stretch/>
          </p:blipFill>
          <p:spPr>
            <a:xfrm>
              <a:off x="5003640" y="966600"/>
              <a:ext cx="3745080" cy="3052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trips dir="r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68360" y="712800"/>
            <a:ext cx="763272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d Read the conversation 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nswer the questio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2027160"/>
            <a:ext cx="79218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Which is the biggest man-made objects in the worl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Which is the most famous part of the Ming Great Wal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31480" y="3435480"/>
            <a:ext cx="336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he Great Wa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08360" y="5451480"/>
            <a:ext cx="514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adaling part of the wa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79480" y="50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94720" y="81000"/>
            <a:ext cx="175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Task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50920" y="1349280"/>
            <a:ext cx="86421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Fell fre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to ask me anything on today’s Great Wall tou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在今天的长城游中，大家尽管问我任何问题，不要拘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4360" y="3870360"/>
            <a:ext cx="80658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ell free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是英语口语中一个常用表达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若有人让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el free to do something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就是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让你无需拘束，只管按照自己的意愿去做某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39640" y="476280"/>
            <a:ext cx="518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Language points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plit dir="out" orient="ver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90560" y="3898800"/>
            <a:ext cx="774216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s far as I know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是一个固定的表达方式，还可以说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o far as I know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，意思是“据我所知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1062000"/>
            <a:ext cx="835164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s far as I know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there are no man-made objects as big as th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据我所知，再没有像它这样大的人造物体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476360" y="1019160"/>
            <a:ext cx="6551640" cy="53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el f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most popula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alk abou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Ming Dynas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ancient empe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main rea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s far as I k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Ming Great W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95280" y="476280"/>
            <a:ext cx="8424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summary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p:transition>
    <p:strips dir="rd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55640" y="1557360"/>
            <a:ext cx="77770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w long is the wal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’s about 8,850 kilometers lo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makes it the longest wall in the wor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’s the most famous par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692360" y="1052640"/>
            <a:ext cx="561636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Homework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1800" y="2933640"/>
            <a:ext cx="79012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: To memorize the important phras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nd sentenc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: To make some dialogues us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uperla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: Preview the passage in 3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 Review the important phrases    and           sent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 Students show their convers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 Ask students to read the new wo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aching ai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words and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se listening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about some famous places using superlati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the preview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87280" y="293760"/>
            <a:ext cx="853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task  1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 2a  Listen and number the facts(1- 4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 the order you hear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96000"/>
            <a:ext cx="59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35120" y="32558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42920" y="1484280"/>
            <a:ext cx="6337440" cy="720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,300     5,000      5,464       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2390760"/>
            <a:ext cx="889344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___ The Yangtze River is about ____ kilometers long and the Yellow River is  ___ kilometers lo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25320" indent="-62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___ China has the biggest population in the world. It’s a lot bigger than the population of the U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25320" indent="-62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___ China is over ___ years old. It has a much longer history than the US. The US is not even ___ years ol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25320" indent="-62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___ China is almost as big as the US, but it is the biggest country in Asi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80" y="403920"/>
            <a:ext cx="45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s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6720" y="2246400"/>
            <a:ext cx="397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77640" y="3224160"/>
            <a:ext cx="397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5440" y="4118040"/>
            <a:ext cx="397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5440" y="5384880"/>
            <a:ext cx="397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812000" y="1268280"/>
            <a:ext cx="860400" cy="8604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87280" y="331920"/>
            <a:ext cx="8532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Task 2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2b  Listen again and fill in the bla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n 2a with the numbers in the bo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54960"/>
            <a:ext cx="59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5120" y="3214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42920" y="1700280"/>
            <a:ext cx="6337440" cy="720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,300     5,000      5,464       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2565360"/>
            <a:ext cx="856908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8200" indent="-808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 The Yangtze River is about _______ kilometers long and the Yellow River is ______ kilometers lo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8200" indent="-808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 China has the biggest population in the world. It’s a lot bigger than the population of the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332640"/>
            <a:ext cx="56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812000" y="1631880"/>
            <a:ext cx="860400" cy="860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589440" y="2637000"/>
            <a:ext cx="12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6,3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20720" y="3933720"/>
            <a:ext cx="12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5,46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03280" y="1268280"/>
            <a:ext cx="810108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8200" indent="-808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 China is over ______ years old. It has a much longer history than the US. The US is not even ___ years o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8200" indent="-808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 China is almost as big as the US, but it is the biggest country in Asi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068720" y="1268280"/>
            <a:ext cx="1209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5,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869080" y="2563920"/>
            <a:ext cx="866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39640" y="1563840"/>
            <a:ext cx="808056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c Make conversations using th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information in 2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2862360"/>
            <a:ext cx="84978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: Did you know that China is one of the oldest countries in the worl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: Yes, I did. it’s much older than my count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556000" y="476280"/>
            <a:ext cx="3817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Practice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93366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94720" y="81000"/>
            <a:ext cx="175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Task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68360" y="1268280"/>
            <a:ext cx="84978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: Did you know that Yangtze River is the longest river in Chin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25320" indent="-6253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: Yes, I did. It’s 6,300 meters lo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25320" indent="-6253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: Wow! That’s long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3T17:15:11Z</dcterms:created>
  <dc:creator/>
  <dc:description/>
  <dc:language>en-US</dc:language>
  <cp:lastModifiedBy/>
  <dcterms:modified xsi:type="dcterms:W3CDTF">2015-04-06T09:14:40Z</dcterms:modified>
  <cp:revision>15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4</vt:lpwstr>
  </property>
</Properties>
</file>